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FB47-9411-4596-9966-2AF660604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08F6-9109-4E2C-BBED-10396AEE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E1E1-6050-430A-A346-0C29BAA4D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F8DA-DED6-4638-A0CB-3A28D0070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1B54-417C-498C-B3C3-D2174B41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A9A7-309D-4D73-A6F3-ED507390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A1BC-94D1-4E87-A4F2-530507DA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2C3E-71D3-4C1C-BF13-94987132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8F3F-E779-4900-8538-813E1D1F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06EF-2E41-4314-88B3-499957C5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ED1C-FEEA-4263-8975-8B2AF895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62BE-6262-4551-821E-11D0F6AB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CF8C-4E02-441A-BA63-7E9975A8BF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do we capitalize and learn from the three components of this continental projec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onalities Across Reg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ming system/livelihood components and constraints may be common across regions – where research is done may not be the only place it is applic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monitoring and evaluation framework  and research design will facilitate lear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ergent research questions transcend national and regional boundar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ergent Research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pportunities to test development hypotheses under a single conceptual framework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ed to understand initial conditions, pathways, and outcomes (at least qualitatively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example: How does this project contribute to nutrition outcomes? How (or if?) nutrition outcomes relate to environmental, social, and economic sustainability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lyze Pathways to Imp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dentify “development syndromes” with similar constraints and opportuniti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agnose how interventions yield impacts across intensification and sustainability gradie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example, how (and if) increased productivity raise incomes and improve nutrition/stunting outcome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ed to establish logical links and measure causation between interventions and outcomes and high-level impac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ual Fra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a common framework to characterize site agroecologies, household and community socioeconomic characteristics, interventions, impact pathways, and indicators (M&amp;E pla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hnical details of interventions, component technologies will vary within and between the three reg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opportunities to scale up across intensification/sustainability gradi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early Meet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opportunity for to share lessons and expertise across regions and discipli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 development partners, and focus discussion on integration and develop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ow for feedback and adaptive changes to research desig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 from other programs: CRPs, CRSPs, development activities, CAADP activit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1:20:28Z</dcterms:created>
  <dc:creator>Windows User</dc:creator>
  <dc:description/>
  <dc:language>en-US</dc:language>
  <cp:lastModifiedBy>eleborgne</cp:lastModifiedBy>
  <dcterms:modified xsi:type="dcterms:W3CDTF">2012-02-13T06:56:00Z</dcterms:modified>
  <cp:revision>7</cp:revision>
  <dc:subject/>
  <dc:title>How do we capitalize and learn from the three components of this continental project?</dc:title>
</cp:coreProperties>
</file>